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7DC-5672-44DA-B962-48362725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AB7-5D62-419C-8278-3FB7898B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391-B869-41ED-B63D-8D800B44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549-2F30-4246-9BAB-EC80BBB9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CE9-3A19-480B-AC7D-B947223E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76D-3F81-4D96-A8FE-CEB91023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AEB-0D33-4973-A48B-B38AB07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FFE-3AF6-412E-B399-40EA0124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D61-DCC9-4912-BDDF-416E4B2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040-2B69-494F-AEAC-B836D829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120-86D8-47B2-ADCC-913C0E7C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9BB-9E67-4E4C-B896-2FACF2C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BD08-E328-47D8-9919-A33720CD6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dwell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2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3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stin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tung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flex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drank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creatures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floc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crow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luebird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7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1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1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1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700" spc="-1" strike="noStrike">
                <a:solidFill>
                  <a:srgbClr val="000000"/>
                </a:solidFill>
                <a:latin typeface="Arial"/>
              </a:rPr>
              <a:t>pulling</a:t>
            </a:r>
            <a:endParaRPr b="0" lang="en-US" sz="2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mine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ane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lon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3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0000"/>
                </a:solidFill>
                <a:latin typeface="Arial"/>
              </a:rPr>
              <a:t>plug</a:t>
            </a:r>
            <a:endParaRPr b="0" lang="en-US" sz="3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tun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000000"/>
                </a:solidFill>
                <a:latin typeface="Arial"/>
              </a:rPr>
              <a:t>smile</a:t>
            </a:r>
            <a:endParaRPr b="0" lang="en-US" sz="2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crub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7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crape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 </cp:lastModifiedBy>
  <dcterms:modified xsi:type="dcterms:W3CDTF">2007-05-06T15:13:07Z</dcterms:modified>
  <cp:revision>20</cp:revision>
  <dc:subject/>
  <dc:title>king</dc:title>
</cp:coreProperties>
</file>